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3CF-B215-4979-AD4C-99A4F135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2F8-CD11-48D1-992F-768993F1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6CE-37B3-4F18-9395-720E5BB1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DD5B-2685-4E90-9E7D-FECC95CC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F67-7CCA-48C1-9429-CCEEC392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1B5-07EF-45E2-A317-131D21C6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FBC-9EA7-4A5B-8094-31DA154E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3D2-4EF3-4BC1-939B-8E2C0427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882-C1EB-49C8-AF27-AF41DC4F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7C3-2772-43B8-B941-50518597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B96-DF92-4F7B-8BC7-33476BA3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71F-70F0-4588-BCDF-B4DCA3ED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8600-1EB0-4F67-91F2-5B83C055A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bilidades de Inversión en Invernad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g. Carlos Zanatt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groindustrias Vida S.A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bco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Quién la pa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yo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rcado d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es y Recomend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ú dispone de ya de una tecnología competitiva y de bajo c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rece ventajas para superar barreras fitosani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ia del personal cal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rse a mercad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los ejemplos extranjeros exit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car asociaciones comerciales para acelerar las economías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ción Uni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la 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nologías Involuc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ctura de la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 y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299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s Extranjeras (España, Marruecos y Colo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 Peruana (Sur y Norte Ch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Comerciales (Barreras Arancelarias y Fitosanita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Tecnológ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año Mínimo E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Hídricos, Técnicos y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trol Inte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Integ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Fito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Quí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ejo Técnico de la nutrición de la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speci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o Produ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 Hipotético de Tomate en Invernad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hect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Inverna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estructura acorde al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es pro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dos para el prime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2384280"/>
          <a:ext cx="403848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4280"/>
                    <a:ext cx="40384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874240"/>
                <a:gridCol w="1163880"/>
              </a:tblGrid>
              <a:tr h="53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 de R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pre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alidad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aestructura de Invern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tación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hículos y Maqu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año (planilla + insum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0:51:42Z</dcterms:created>
  <dc:creator>Your User Name</dc:creator>
  <dc:description/>
  <dc:language>en-US</dc:language>
  <cp:lastModifiedBy>Your User Name</cp:lastModifiedBy>
  <dcterms:modified xsi:type="dcterms:W3CDTF">2004-01-29T12:40:38Z</dcterms:modified>
  <cp:revision>8</cp:revision>
  <dc:subject/>
  <dc:title>Posibilidades de Inversión en Invernaderos</dc:title>
</cp:coreProperties>
</file>